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9F456-8971-4333-ADF7-1A5531B0F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0C999-E0ED-4216-9101-1AC1EB29D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E045C-9F0E-4EC0-B8ED-E2BDBA5F3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E5325-15F6-4AEA-9164-E55ECD718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246D8-98A3-4CE4-8156-2452E6B67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82184-9DC2-4F54-A9B4-E8296E1F1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21343-06AD-4652-92CE-93738A105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8F5FB-37C2-43F8-9FAE-C9E86DD6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9DCA-5F30-4581-AD7B-AA7BC2160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39645-4CBA-4C6A-90D7-F6C67DFB6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DF01F-6F30-4518-AF55-2EC367024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D4391-C0F3-4425-B77D-B40BF3FD7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2CC00-A2ED-4DB9-9075-6BD5ABCFC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79A86-826E-447D-8BE0-B5CEE80D5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B244F-943D-499E-B21F-07994CC1C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2ACC6-5570-456B-8165-F918CAFD3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3B163-C6B9-4D9E-A4FB-E26082595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994C7-AFE9-47D7-9FA5-8E6B7538B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00142-12B0-4A8F-8D95-017114B62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5E1F7-8E3C-4F72-BF85-434C3A875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4AE49-3A5A-47B6-A788-6A458B4D5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EC024-D600-4139-BFB2-331B4D1BC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167E6-F27C-453E-81AD-BAD32DA8D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6558E-2082-48DE-80BF-D3FA971EE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F5C8E9-2F3C-4F50-8DA9-54C0626B02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9EA87-37F4-42AA-BA5C-7AA6355B5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9E5657-92D7-44FF-B2EC-9053A0477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B6FDD-5718-4F22-B8AB-77DD310D0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2ED91-EE0B-40DB-A584-68AADB648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0D081-CF5B-4194-98F6-11085A0B0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7842F-F50B-4796-82FF-BF311C58B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010DF-41A4-4EE2-A0F8-F0946E334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3BE2C-0FBA-41BC-AD01-B37E719DD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DF3B4-4B29-4A29-B9FB-9A5DBDD33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FE0F66-BC13-49DF-B21A-50E6C107A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9060C4-04AB-45E2-91D0-93A9F26F2D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30864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0864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5D7A-3423-447C-9188-D0099D6B3EF3}"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08640"/>
            <a:ext cx="1130400" cy="419040"/>
          </a:xfrm>
          <a:prstGeom prst="rect">
            <a:avLst/>
          </a:prstGeom>
          <a:ln w="0">
            <a:noFill/>
          </a:ln>
        </p:spPr>
      </p:pic>
      <p:pic>
        <p:nvPicPr>
          <p:cNvPr id="7" name="" descr=""/>
          <p:cNvPicPr/>
          <p:nvPr/>
        </p:nvPicPr>
        <p:blipFill>
          <a:blip r:embed="rId4">
            <a:lum bright="70000" contrast="-70000"/>
          </a:blip>
          <a:stretch/>
        </p:blipFill>
        <p:spPr>
          <a:xfrm>
            <a:off x="762120" y="571680"/>
            <a:ext cx="7619760" cy="571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1EAD-E299-4DBE-9E0A-B00FD030038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8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759B-FD73-4290-9733-03AC2910CD6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13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7385-CD1E-4A78-BDF2-2A787D12264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17040"/>
            <a:ext cx="8181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7</a:t>
            </a:r>
            <a:r>
              <a:rPr b="0" lang="en-US" sz="3600" spc="-1" strike="noStrike">
                <a:solidFill>
                  <a:srgbClr val="333399"/>
                </a:solidFill>
                <a:latin typeface="Tahoma"/>
              </a:rPr>
              <a:t>: Survey Research</a:t>
            </a:r>
            <a:endParaRPr b="0" lang="en-US" sz="3600" spc="-1" strike="noStrike">
              <a:solidFill>
                <a:srgbClr val="333399"/>
              </a:solidFill>
              <a:latin typeface="Tahoma"/>
            </a:endParaRPr>
          </a:p>
        </p:txBody>
      </p:sp>
      <p:sp>
        <p:nvSpPr>
          <p:cNvPr id="168"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survey research, and differentiate between sample surveys and census surveys, and between cross-sectional and longitudinal surveys.</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the procedures involved in constructing a questionnaire.</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the procedures involved in administering a questionnaire.</a:t>
            </a: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86" name="PlaceHolder 2"/>
          <p:cNvSpPr>
            <a:spLocks noGrp="1"/>
          </p:cNvSpPr>
          <p:nvPr>
            <p:ph/>
          </p:nvPr>
        </p:nvSpPr>
        <p:spPr>
          <a:xfrm>
            <a:off x="762120" y="1905120"/>
            <a:ext cx="76197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ng the proble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nts are more likely to respond to questionnaires that they perceive address a sufficiently relevant topic or proble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should set objectives for the type of information desired from a questionnai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88"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ing a questionnaire requires skill and time.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should plan content and format of the questionnaire.</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surveys include one of two types of items.</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ctured items or closed-ended items for which participants choose among possible responses (e.g., Likert scale).</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structured items in which participants have freedom of response (e.g., fill-in answer). </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0"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 to consider when constructing a questionnai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only items that relate to the objectives of the stud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each question on a single concep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 demographic information.</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2"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erm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a point of reference or comparison for participants.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leading question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sensitive questions to which respondents might not answer honestl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ask a question that assumes something that may not be tru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4"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tems from general to specific.</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others read your instrument and provide feedback.</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directions for the responden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the purpose of the study at the top of the instrumen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Pilot test the questionnaire.</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6"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lot testing the questionnaire</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lot test with members of the intended sample population.</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respondents to make suggestions for any content to add or to delete.</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porate feedback from your pilot administration and make any appropriate chan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8" name="PlaceHolder 2"/>
          <p:cNvSpPr>
            <a:spLocks noGrp="1"/>
          </p:cNvSpPr>
          <p:nvPr>
            <p:ph/>
          </p:nvPr>
        </p:nvSpPr>
        <p:spPr>
          <a:xfrm>
            <a:off x="1219320" y="1981080"/>
            <a:ext cx="71625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ing the cover lette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er letters should accompany all survey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er letters should be brief.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er letters should be addressed to a specific pers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ver letter should explain the purpose of the study.</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200"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ing the cover letter</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ver letter should include a statement regarding the importance and significance of the study.</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ver letter should include how results from the study will be shared with respondents and interested others.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lot test the cover letter.</a:t>
            </a:r>
            <a:endParaRPr b="0" lang="en-US" sz="2800" spc="-1" strike="noStrike">
              <a:solidFill>
                <a:srgbClr val="000000"/>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ministering the Questionnaire</a:t>
            </a:r>
            <a:endParaRPr b="0" lang="en-US" sz="3600" spc="-1" strike="noStrike">
              <a:solidFill>
                <a:srgbClr val="333399"/>
              </a:solidFill>
              <a:latin typeface="Tahoma"/>
            </a:endParaRPr>
          </a:p>
        </p:txBody>
      </p:sp>
      <p:sp>
        <p:nvSpPr>
          <p:cNvPr id="202"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ng participants</a:t>
            </a:r>
            <a:endParaRPr b="0" lang="en-US" sz="32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sampling strategies should be followed.</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ing the questionnaire</a:t>
            </a:r>
            <a:endParaRPr b="0" lang="en-US" sz="32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l</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phone</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administration</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il</a:t>
            </a:r>
            <a:endParaRPr b="0" lang="en-US" sz="3600" spc="-1" strike="noStrike">
              <a:solidFill>
                <a:srgbClr val="333399"/>
              </a:solidFill>
              <a:latin typeface="Tahoma"/>
            </a:endParaRPr>
          </a:p>
        </p:txBody>
      </p:sp>
      <p:sp>
        <p:nvSpPr>
          <p:cNvPr id="204"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xpensi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confidential or anonymou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ized items and procedur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score most items</a:t>
            </a:r>
            <a:endParaRPr b="0" lang="en-US" sz="2400" spc="-1" strike="noStrike">
              <a:solidFill>
                <a:srgbClr val="000000"/>
              </a:solidFill>
              <a:latin typeface="Tahoma"/>
            </a:endParaRPr>
          </a:p>
        </p:txBody>
      </p:sp>
      <p:sp>
        <p:nvSpPr>
          <p:cNvPr id="205" name="PlaceHolder 3"/>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rate may be smal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not follow up item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sets possib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to those who rea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a:t>
            </a:r>
            <a:endParaRPr b="0" lang="en-US" sz="3600" spc="-1" strike="noStrike">
              <a:solidFill>
                <a:srgbClr val="333399"/>
              </a:solidFill>
              <a:latin typeface="Tahoma"/>
            </a:endParaRPr>
          </a:p>
        </p:txBody>
      </p:sp>
      <p:sp>
        <p:nvSpPr>
          <p:cNvPr id="170"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 research involves collecting data to test hypotheses or to answer questions about people’s opinions on some topic or issu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 is an instrument to collect data that describes characteristics of a population.</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 research is challenging to conduct and findings from survey research are not always easily interpreted.</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ail</a:t>
            </a:r>
            <a:endParaRPr b="0" lang="en-US" sz="3600" spc="-1" strike="noStrike">
              <a:solidFill>
                <a:srgbClr val="333399"/>
              </a:solidFill>
              <a:latin typeface="Tahoma"/>
            </a:endParaRPr>
          </a:p>
        </p:txBody>
      </p:sp>
      <p:sp>
        <p:nvSpPr>
          <p:cNvPr id="207" name="PlaceHolder 2"/>
          <p:cNvSpPr>
            <a:spLocks noGrp="1"/>
          </p:cNvSpPr>
          <p:nvPr>
            <p:ph/>
          </p:nvPr>
        </p:nvSpPr>
        <p:spPr>
          <a:xfrm>
            <a:off x="761760" y="1980720"/>
            <a:ext cx="3809880" cy="4343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target responden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ckly administere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xpensiv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confidential or anonymou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ized items and procedur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score most item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PlaceHolder 3"/>
          <p:cNvSpPr>
            <a:spLocks noGrp="1"/>
          </p:cNvSpPr>
          <p:nvPr>
            <p:ph/>
          </p:nvPr>
        </p:nvSpPr>
        <p:spPr>
          <a:xfrm>
            <a:off x="4343400" y="1981080"/>
            <a:ext cx="4038480" cy="42674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everyone has emai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replies from same participant possib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rate may be smal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get sorted to trash</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not follow up item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sets possib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to those who read</a:t>
            </a:r>
            <a:endParaRPr b="0" lang="en-US" sz="24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lephone</a:t>
            </a:r>
            <a:endParaRPr b="0" lang="en-US" sz="3600" spc="-1" strike="noStrike">
              <a:solidFill>
                <a:srgbClr val="333399"/>
              </a:solidFill>
              <a:latin typeface="Tahoma"/>
            </a:endParaRPr>
          </a:p>
        </p:txBody>
      </p:sp>
      <p:sp>
        <p:nvSpPr>
          <p:cNvPr id="210"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response ra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ck data collec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reach a range of locations and responde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use 800 call in numbers to increase response rat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PlaceHolder 3"/>
          <p:cNvSpPr>
            <a:spLocks noGrp="1"/>
          </p:cNvSpPr>
          <p:nvPr>
            <p:ph/>
          </p:nvPr>
        </p:nvSpPr>
        <p:spPr>
          <a:xfrm>
            <a:off x="4724280" y="1981080"/>
            <a:ext cx="36576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s phone number lis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to get in-depth da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ministrators must be traine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ll phones versus landli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ersonal Administration</a:t>
            </a:r>
            <a:endParaRPr b="0" lang="en-US" sz="3600" spc="-1" strike="noStrike">
              <a:solidFill>
                <a:srgbClr val="333399"/>
              </a:solidFill>
              <a:latin typeface="Tahoma"/>
            </a:endParaRPr>
          </a:p>
        </p:txBody>
      </p:sp>
      <p:sp>
        <p:nvSpPr>
          <p:cNvPr id="213" name="PlaceHolder 2"/>
          <p:cNvSpPr>
            <a:spLocks noGrp="1"/>
          </p:cNvSpPr>
          <p:nvPr>
            <p:ph/>
          </p:nvPr>
        </p:nvSpPr>
        <p:spPr>
          <a:xfrm>
            <a:off x="762120" y="198108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icient when respondents are in close proxim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connection with respondent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3"/>
          <p:cNvSpPr>
            <a:spLocks noGrp="1"/>
          </p:cNvSpPr>
          <p:nvPr>
            <p:ph/>
          </p:nvPr>
        </p:nvSpPr>
        <p:spPr>
          <a:xfrm>
            <a:off x="4724280" y="198108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sum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connection with respond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views</a:t>
            </a:r>
            <a:endParaRPr b="0" lang="en-US" sz="3600" spc="-1" strike="noStrike">
              <a:solidFill>
                <a:srgbClr val="333399"/>
              </a:solidFill>
              <a:latin typeface="Tahoma"/>
            </a:endParaRPr>
          </a:p>
        </p:txBody>
      </p:sp>
      <p:sp>
        <p:nvSpPr>
          <p:cNvPr id="216" name="PlaceHolder 2"/>
          <p:cNvSpPr>
            <a:spLocks noGrp="1"/>
          </p:cNvSpPr>
          <p:nvPr>
            <p:ph/>
          </p:nvPr>
        </p:nvSpPr>
        <p:spPr>
          <a:xfrm>
            <a:off x="762120" y="1981080"/>
            <a:ext cx="36576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follow-up responses and probe for additional information or clar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be recorde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rat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connection with respondent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3"/>
          <p:cNvSpPr>
            <a:spLocks noGrp="1"/>
          </p:cNvSpPr>
          <p:nvPr>
            <p:ph/>
          </p:nvPr>
        </p:nvSpPr>
        <p:spPr>
          <a:xfrm>
            <a:off x="4724280" y="1981080"/>
            <a:ext cx="36576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sum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er bias possibl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structured data analysi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connection with respondent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Follow-Up Activities</a:t>
            </a:r>
            <a:endParaRPr b="0" lang="en-US" sz="3600" spc="-1" strike="noStrike">
              <a:solidFill>
                <a:srgbClr val="333399"/>
              </a:solidFill>
              <a:latin typeface="Tahoma"/>
            </a:endParaRPr>
          </a:p>
        </p:txBody>
      </p:sp>
      <p:sp>
        <p:nvSpPr>
          <p:cNvPr id="219"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igher the return rate the better your study.</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response rates limit generalizability. </a:t>
            </a:r>
            <a:endParaRPr b="0" lang="en-US" sz="28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out a reminder postcard to increase response rate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out a second complete mailing to increase response rate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phone-call reminders to increase response r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761760"/>
            <a:ext cx="761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Follow-Up Activities</a:t>
            </a:r>
            <a:endParaRPr b="0" lang="en-US" sz="3600" spc="-1" strike="noStrike">
              <a:solidFill>
                <a:srgbClr val="333399"/>
              </a:solidFill>
              <a:latin typeface="Tahoma"/>
            </a:endParaRPr>
          </a:p>
        </p:txBody>
      </p:sp>
      <p:sp>
        <p:nvSpPr>
          <p:cNvPr id="221"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e rates vary.</a:t>
            </a:r>
            <a:endParaRPr b="0" lang="en-US" sz="28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mailings usually return about 30%-50%.</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mailings add an additional 20%.</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imes additional mailings are not cost- effective.</a:t>
            </a:r>
            <a:endParaRPr b="0" lang="en-US" sz="24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should try to determine possible reasons for nonresponse.</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response may be at the survey or item level.</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should carefully look for patterns of nonrespon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bulating Questionnaire Responses</a:t>
            </a:r>
            <a:endParaRPr b="0" lang="en-US" sz="3600" spc="-1" strike="noStrike">
              <a:solidFill>
                <a:srgbClr val="333399"/>
              </a:solidFill>
              <a:latin typeface="Tahoma"/>
            </a:endParaRPr>
          </a:p>
        </p:txBody>
      </p:sp>
      <p:sp>
        <p:nvSpPr>
          <p:cNvPr id="22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cannable answer sheets if possib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answers into spreadsheet or statistical pack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open-ended answer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vailable qualitative software analysis package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61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zing Results</a:t>
            </a:r>
            <a:endParaRPr b="0" lang="en-US" sz="3600" spc="-1" strike="noStrike">
              <a:solidFill>
                <a:srgbClr val="333399"/>
              </a:solidFill>
              <a:latin typeface="Tahoma"/>
            </a:endParaRPr>
          </a:p>
        </p:txBody>
      </p:sp>
      <p:sp>
        <p:nvSpPr>
          <p:cNvPr id="225" name="PlaceHolder 2"/>
          <p:cNvSpPr>
            <a:spLocks noGrp="1"/>
          </p:cNvSpPr>
          <p:nvPr>
            <p:ph/>
          </p:nvPr>
        </p:nvSpPr>
        <p:spPr>
          <a:xfrm>
            <a:off x="762120" y="1905120"/>
            <a:ext cx="76197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total sample siz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way to report results from surveys is to share overall percentage of return and response rates per item.</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Percentage that answered ‘yes’ and percentage that answered ‘no’</a:t>
            </a:r>
            <a:endParaRPr b="0" lang="en-US" sz="2400" spc="-1" strike="noStrike">
              <a:solidFill>
                <a:srgbClr val="000000"/>
              </a:solidFill>
              <a:latin typeface="Tahom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61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zing Results</a:t>
            </a:r>
            <a:endParaRPr b="0" lang="en-US" sz="3600" spc="-1" strike="noStrike">
              <a:solidFill>
                <a:srgbClr val="333399"/>
              </a:solidFill>
              <a:latin typeface="Tahoma"/>
            </a:endParaRPr>
          </a:p>
        </p:txBody>
      </p:sp>
      <p:sp>
        <p:nvSpPr>
          <p:cNvPr id="227" name="PlaceHolder 2"/>
          <p:cNvSpPr>
            <a:spLocks noGrp="1"/>
          </p:cNvSpPr>
          <p:nvPr>
            <p:ph/>
          </p:nvPr>
        </p:nvSpPr>
        <p:spPr>
          <a:xfrm>
            <a:off x="762120" y="1905120"/>
            <a:ext cx="76197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ternative reports can include total scores or mean scores by cluster or area of a survey.  Such as comparisons by participant characteristics.</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Percentage of men or women with a particular respons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s of survey studies will vary by the underlying purpose of the survey. </a:t>
            </a:r>
            <a:endParaRPr b="0" lang="en-US" sz="28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a:t>
            </a:r>
            <a:endParaRPr b="0" lang="en-US" sz="3600" spc="-1" strike="noStrike">
              <a:solidFill>
                <a:srgbClr val="333399"/>
              </a:solidFill>
              <a:latin typeface="Tahoma"/>
            </a:endParaRPr>
          </a:p>
        </p:txBody>
      </p:sp>
      <p:sp>
        <p:nvSpPr>
          <p:cNvPr id="172"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ample survey is designed to sample participants and generalize to a popul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ensus survey samples every member of the population.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sus surveys are generally done with small and accessible popula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74" name="PlaceHolder 2"/>
          <p:cNvSpPr>
            <a:spLocks noGrp="1"/>
          </p:cNvSpPr>
          <p:nvPr>
            <p:ph/>
          </p:nvPr>
        </p:nvSpPr>
        <p:spPr>
          <a:xfrm>
            <a:off x="761760" y="1828800"/>
            <a:ext cx="75438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oss-Sectional Surveys</a:t>
            </a:r>
            <a:r>
              <a:rPr b="0" lang="en-US" sz="2800" spc="-1" strike="noStrike">
                <a:solidFill>
                  <a:srgbClr val="000000"/>
                </a:solidFill>
                <a:latin typeface="Tahoma"/>
              </a:rPr>
              <a:t>  </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 study that examines the self-concept of all pre-service teachers at a given university.</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are collected from selected participants at a single point in time. </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studies provide a snapshot of current beliefs or opinions.</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survey studies are not intended to provide insight into trends or changes over ti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76" name="PlaceHolder 2"/>
          <p:cNvSpPr>
            <a:spLocks noGrp="1"/>
          </p:cNvSpPr>
          <p:nvPr>
            <p:ph/>
          </p:nvPr>
        </p:nvSpPr>
        <p:spPr>
          <a:xfrm>
            <a:off x="762120" y="1981080"/>
            <a:ext cx="7619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ngitudinal Survey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re collected at two or more time poi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challenges when conducting longitudinal studies is attrition.</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78" name="PlaceHolder 2"/>
          <p:cNvSpPr>
            <a:spLocks noGrp="1"/>
          </p:cNvSpPr>
          <p:nvPr>
            <p:ph/>
          </p:nvPr>
        </p:nvSpPr>
        <p:spPr>
          <a:xfrm>
            <a:off x="762120" y="1981080"/>
            <a:ext cx="7619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ngitudinal Survey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several types of longitudinal survey designs.</a:t>
            </a:r>
            <a:endParaRPr b="0" lang="en-US" sz="28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d studies examine changes over time in a particular population defined by some trait.</a:t>
            </a:r>
            <a:r>
              <a:rPr b="0" lang="en-US" sz="3200" spc="-1" strike="noStrike">
                <a:solidFill>
                  <a:srgbClr val="000000"/>
                </a:solidFill>
                <a:latin typeface="Tahoma"/>
              </a:rPr>
              <a:t> </a:t>
            </a:r>
            <a:endParaRPr b="0" lang="en-US" sz="32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entering kindergartners</a:t>
            </a:r>
            <a:endParaRPr b="0" lang="en-US" sz="20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80" name="PlaceHolder 2"/>
          <p:cNvSpPr>
            <a:spLocks noGrp="1"/>
          </p:cNvSpPr>
          <p:nvPr>
            <p:ph/>
          </p:nvPr>
        </p:nvSpPr>
        <p:spPr>
          <a:xfrm>
            <a:off x="762120" y="1981080"/>
            <a:ext cx="7619760" cy="4114800"/>
          </a:xfrm>
          <a:prstGeom prst="rect">
            <a:avLst/>
          </a:prstGeom>
          <a:noFill/>
          <a:ln w="0">
            <a:noFill/>
          </a:ln>
        </p:spPr>
        <p:txBody>
          <a:bodyPr lIns="90000" rIns="90000" tIns="46800" bIns="46800" anchor="t">
            <a:normAutofit/>
          </a:bodyPr>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hort studies examine one population selected at a particular time period.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 researcher could study children that received speech and language support as first graders in 2007.  She might examine some participants from the population in 2008 and then sample others from that population in 201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82" name="PlaceHolder 2"/>
          <p:cNvSpPr>
            <a:spLocks noGrp="1"/>
          </p:cNvSpPr>
          <p:nvPr>
            <p:ph/>
          </p:nvPr>
        </p:nvSpPr>
        <p:spPr>
          <a:xfrm>
            <a:off x="762120" y="1981080"/>
            <a:ext cx="7619760" cy="411480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el studies involve the same sample of individuals over a set time.</a:t>
            </a:r>
            <a:endParaRPr b="0" lang="en-US" sz="2400" spc="-1" strike="noStrike">
              <a:solidFill>
                <a:srgbClr val="000000"/>
              </a:solidFill>
              <a:latin typeface="Tahoma"/>
            </a:endParaRPr>
          </a:p>
          <a:p>
            <a:pPr lvl="3" marL="1600200" indent="-22860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 researcher might conduct a five-year panel study of the first class of law students at a new institution. He might survey them each spring for five years.</a:t>
            </a:r>
            <a:endParaRPr b="0" lang="en-US" sz="20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up studies investigate change in a previously studied population.</a:t>
            </a:r>
            <a:endParaRPr b="0" lang="en-US" sz="2400" spc="-1" strike="noStrike">
              <a:solidFill>
                <a:srgbClr val="000000"/>
              </a:solidFill>
              <a:latin typeface="Tahoma"/>
            </a:endParaRPr>
          </a:p>
          <a:p>
            <a:pPr lvl="3" marL="1600200" indent="-22860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 researcher might be interested in a follow- up study in 2015 of those participants involved in the cohort study of first-graders in speech and language support during 2007.</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Survey Research</a:t>
            </a:r>
            <a:endParaRPr b="0" lang="en-US" sz="3600" spc="-1" strike="noStrike">
              <a:solidFill>
                <a:srgbClr val="333399"/>
              </a:solidFill>
              <a:latin typeface="Tahoma"/>
            </a:endParaRPr>
          </a:p>
        </p:txBody>
      </p:sp>
      <p:sp>
        <p:nvSpPr>
          <p:cNvPr id="184"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naires are a written collection of survey questions answered by a group of participan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mailed or email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technologies for on-line surveys (e.g., SurveyMonkey.com, Zoomerang.com, et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views are oral, in-person question and answer sessions between the researcher and a respond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15T20:47:05Z</dcterms:modified>
  <cp:revision>74</cp:revision>
  <dc:subject/>
  <dc:title>AutoCAD Architecture 2008: Part I: Getting Started</dc:title>
</cp:coreProperties>
</file>